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FBF1-7CD6-4282-ABFA-AE678DC4CD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8F02-F4A8-4F15-8B3D-D350234190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7E9F-09E1-4974-BF3B-984CB0425A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1535-9B84-448A-B7E9-E6BB9B05A9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CB38-AFAA-4A98-999D-36AF1D2822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B3C4-1B3E-412F-A7CA-9C9599B9CE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20C1-16BD-41DE-8205-0E429BB3C1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3E2B-032F-4A4F-8438-3C71E2E145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CD63-980F-4253-B795-1C3DC34950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B1E0-142D-41B0-AA94-C43B8F6AB8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C954-5505-435A-859B-77B2D8B240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DD96-8C7C-4543-9CA8-4A8A2DD6B1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2BEF4-AB7A-4B6A-A4E7-293612BA83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F1998-D155-4D3E-AAB9-692127DB41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5EB41-CE95-437D-9764-A5F8935A8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D4E9D-2D5D-41CF-A436-632D44EDE6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BFEDD-29E2-4BC3-AF1C-606F282F5E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AE7CA-676F-452D-B497-6591BAD585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881B-465F-4F29-B5F0-6A9B36323D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7109-AB5D-4460-882D-2013FE96C3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A4A23-2F3E-4C59-B5D9-21B31E6BAA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53933-FEA8-45C8-AEAD-43BD25F472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F837E-7467-4793-A9B4-182A129B84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50181-DDA9-4A55-9F5F-23A335507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1643"/>
          <a:stretch/>
        </p:blipFill>
        <p:spPr>
          <a:xfrm>
            <a:off x="0" y="0"/>
            <a:ext cx="9144000" cy="6059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680" y="0"/>
            <a:ext cx="1351080" cy="1254240"/>
          </a:xfrm>
          <a:prstGeom prst="ellipse">
            <a:avLst/>
          </a:prstGeom>
          <a:gradFill rotWithShape="0">
            <a:gsLst>
              <a:gs pos="0">
                <a:srgbClr val="b6ce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241200" y="196920"/>
            <a:ext cx="101448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0" b="11643"/>
          <a:stretch/>
        </p:blipFill>
        <p:spPr>
          <a:xfrm>
            <a:off x="0" y="0"/>
            <a:ext cx="9144000" cy="6059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680" y="0"/>
            <a:ext cx="1351080" cy="1254240"/>
          </a:xfrm>
          <a:prstGeom prst="ellipse">
            <a:avLst/>
          </a:prstGeom>
          <a:gradFill rotWithShape="0">
            <a:gsLst>
              <a:gs pos="0">
                <a:srgbClr val="b6ce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41200" y="196920"/>
            <a:ext cx="1014480" cy="838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ldNum" idx="1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F385-0833-4C61-A643-87E4150EC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46240" y="1150920"/>
            <a:ext cx="76644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239760" y="2057400"/>
            <a:ext cx="851040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lastslide"/>
          </p:cNvPr>
          <p:cNvSpPr/>
          <p:nvPr/>
        </p:nvSpPr>
        <p:spPr>
          <a:xfrm>
            <a:off x="8933040" y="0"/>
            <a:ext cx="210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Num" idx="2"/>
          </p:nvPr>
        </p:nvSpPr>
        <p:spPr>
          <a:xfrm>
            <a:off x="6465600" y="63039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563A-FA8F-46AE-B9AC-E97EF99CD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24680" y="661824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9800" y="1103040"/>
            <a:ext cx="8344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4200" y="5857920"/>
            <a:ext cx="928800" cy="10000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58840" y="1486080"/>
            <a:ext cx="40273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02 – 2005:  The Program worked with many federal agencies. In most cases, the Program worked with people that were ei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early adopters of technology;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already familiar with Earth science data and remote sensing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06-7:  The Program identified a need to build on these initial users and cultivate use by their peers within their respective agenc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325760" y="1362240"/>
            <a:ext cx="4214880" cy="3079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859880" y="4079880"/>
            <a:ext cx="110628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2727360" y="112680"/>
            <a:ext cx="402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ir Quality Program</a:t>
            </a:r>
            <a:br>
              <a:rPr sz="32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Needs &amp;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7040" y="5440320"/>
            <a:ext cx="779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08+: The Program needs to access the “next level” of users – people that may have heard about and seen their peers use the Earth science products but don’t necessarily know how to use the products themselv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07960" y="1473120"/>
            <a:ext cx="808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228600"/>
                <a:tab algn="l" pos="457200"/>
                <a:tab algn="l" pos="914400"/>
                <a:tab algn="r" pos="2286000"/>
                <a:tab algn="l" pos="3949560"/>
                <a:tab algn="l" pos="457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1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and demonstrate new applications of NASA Earth observations and science to improve the nation’s ability to manage its natural resources, plan for the future, and respond to environmental threa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228600"/>
                <a:tab algn="l" pos="457200"/>
                <a:tab algn="l" pos="914400"/>
                <a:tab algn="r" pos="2286000"/>
                <a:tab algn="l" pos="3949560"/>
                <a:tab algn="l" pos="457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228600"/>
                <a:tab algn="l" pos="457200"/>
                <a:tab algn="l" pos="914400"/>
                <a:tab algn="r" pos="2286000"/>
                <a:tab algn="l" pos="3949560"/>
                <a:tab algn="l" pos="457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2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 the nation’s capacity to use space-based observations in everyday decision 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228600"/>
                <a:tab algn="l" pos="457200"/>
                <a:tab algn="l" pos="914400"/>
                <a:tab algn="r" pos="2286000"/>
                <a:tab algn="l" pos="3949560"/>
                <a:tab algn="l" pos="457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228600"/>
                <a:tab algn="l" pos="457200"/>
                <a:tab algn="l" pos="914400"/>
                <a:tab algn="r" pos="2286000"/>
                <a:tab algn="l" pos="3949560"/>
                <a:tab algn="l" pos="457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3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ter communication between scientists and end users to ensure that NASA science and observations are optimized to serve both science and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228600"/>
                <a:tab algn="l" pos="457200"/>
                <a:tab algn="l" pos="914400"/>
                <a:tab algn="r" pos="2286000"/>
                <a:tab algn="l" pos="3949560"/>
                <a:tab algn="l" pos="457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228600"/>
                <a:tab algn="l" pos="457200"/>
                <a:tab algn="l" pos="914400"/>
                <a:tab algn="r" pos="2286000"/>
                <a:tab algn="l" pos="3949560"/>
                <a:tab algn="l" pos="457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4:  Help the nation confront the challenges and impacts of climate change through informed policy making and the development of effective adaptation and mitigation strateg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228600"/>
                <a:tab algn="l" pos="457200"/>
                <a:tab algn="l" pos="914400"/>
                <a:tab algn="r" pos="2286000"/>
                <a:tab algn="l" pos="3949560"/>
                <a:tab algn="l" pos="457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16200" y="114480"/>
            <a:ext cx="54864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ed Sciences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gram Plan 2009-14 (Draf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35040" y="1714680"/>
            <a:ext cx="6062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76600" y="112680"/>
            <a:ext cx="413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ir Quality Program </a:t>
            </a:r>
            <a:br>
              <a:rPr sz="32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Q Applied Science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4680" y="1200240"/>
            <a:ext cx="8061120" cy="53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ed Sciences Tea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will focus on a specific set of applied, breakthrough topics that require a sustained, coordinated, and targeted research inves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specific data products and provide applied feedback to ES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 research scientists, data center representatives, applied scientists, and end users; the teams will include scientists sponsored by interested partner agenci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24"/>
              </a:spcAft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 to 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24"/>
              </a:spcAft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R&amp;A/Platform Science Team (e.g. Aura Science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24"/>
              </a:spcAft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 Instrument Science Team (e.g., MODIS Science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24"/>
              </a:spcAft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 Product Team (e.g., Ozone Processing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24"/>
              </a:spcAft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 Field Campaign Event Team (e.g., ARCT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325600" y="112680"/>
            <a:ext cx="482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ir Quality Program</a:t>
            </a:r>
            <a:br>
              <a:rPr sz="32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Program Manag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8280" y="1238400"/>
            <a:ext cx="8290080" cy="54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Aft>
                <a:spcPts val="601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99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TPS – Near Real Time Process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51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ent NRT (&lt;3 hrs) delivery of L1b radiance subsets, L2 &amp; L3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51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ity for existing NRT services &amp; products for MODIS, AIRS, AMSR-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51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lso include OMI SO2 &amp; N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51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bility to test and evaluate new and innovative NRT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349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99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eduction &amp;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51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subset or modified scaling of a larger data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51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to enable targeted data products to facilitat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51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egun in 2008:   CALIPSO products,  MISR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349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99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ed-community Produc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51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e applied representatives on science teams to identify opportunities for targeted or slightly-modified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51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nitial activity:  CALIPSO t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35040" y="1714680"/>
            <a:ext cx="6062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26800" y="112680"/>
            <a:ext cx="544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pplied Sciences Program </a:t>
            </a:r>
            <a:br>
              <a:rPr sz="32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Privat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4680" y="1528920"/>
            <a:ext cx="8061120" cy="43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vat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ate, projects have focused strongly on decision support for Federal agencies, relying on them to extend benefits to state/local/tribal governments.  Often the projects involve contractors or university partners of the Federal ag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better tailor efforts to attract greater interest of private sector organizations in using Earth science produ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olicit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ata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in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ypes of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rror/Quality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35040" y="1714680"/>
            <a:ext cx="6062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26800" y="112680"/>
            <a:ext cx="544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pplied Sciences Program </a:t>
            </a:r>
            <a:br>
              <a:rPr sz="32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Market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4680" y="1528920"/>
            <a:ext cx="806112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rket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n who’s using data currently; what gaps and w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 organizations to help with market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ness the Web network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hort clips for applications examples, data product acces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problem trying to solv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nderutilization or proper u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841320" y="1246320"/>
            <a:ext cx="8136000" cy="36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SIP Fed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ASA Data Policy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nuary 7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artha Maiden &amp; Lawrence Frie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ASA Headqua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arth Science Di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65160" y="5599440"/>
            <a:ext cx="5534280" cy="940680"/>
          </a:xfrm>
          <a:prstGeom prst="rect">
            <a:avLst/>
          </a:prstGeom>
          <a:solidFill>
            <a:srgbClr val="0000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Earth Science Serving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54:07Z</dcterms:created>
  <dc:creator>NASA HQ USER</dc:creator>
  <dc:description/>
  <dc:language>en-US</dc:language>
  <cp:lastModifiedBy>lfriedl</cp:lastModifiedBy>
  <dcterms:modified xsi:type="dcterms:W3CDTF">2009-01-07T14:08:29Z</dcterms:modified>
  <cp:revision>491</cp:revision>
  <dc:subject/>
  <dc:title>Applied Sciences Program: Decision Support through Earth Science Results  Step 1 Review Board  ————  Cooperative Agreement Notice Released:  Sept. 17, 2004 </dc:title>
</cp:coreProperties>
</file>